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C0E-AC6B-456E-A9FE-6FED7474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3221-45C5-4725-B529-B8B3AAA6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36F-C78C-4457-B7E6-9D36879F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EF9-0A88-46A4-814F-779CAB7C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746-E3A6-4CF0-933A-E18421B8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3B2C-1D38-4A67-925C-1AFD2CD1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963-DAD4-4A88-897F-5223B64C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4F19-5FB6-4119-9BE5-62383D8E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532-6AF1-4272-9E90-3A8E8DE0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489-6451-456C-8B10-0B0DB04E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3D3-88DE-448D-A086-872B19B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60A-2C6C-43B7-AD60-BE151043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582F-E437-4B1A-B3D2-44C436210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982000">
            <a:off x="539280" y="549360"/>
            <a:ext cx="5689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 MYSELF AND I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415200">
            <a:off x="3850920" y="5832360"/>
            <a:ext cx="50227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DE BY TIAH IR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276720" y="189000"/>
            <a:ext cx="5400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auhaus 93"/>
              </a:rPr>
              <a:t>!MY PROFILE!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989000"/>
            <a:ext cx="79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full name:   Tiah Daryl I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:   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   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:    40 kil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:     Brune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 size:    7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es size: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64000" y="2852640"/>
            <a:ext cx="288000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0000"/>
                </a:solidFill>
                <a:latin typeface="Arial"/>
              </a:rPr>
              <a:t>ppppppppppiiiiiiiiiiiiiiiiiiiiiicccccccccccttttttttttttttttttuuuuuuuuuurrrrrrrrrrrrrrrreeeeeeeeee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Berlin Sans FB"/>
              </a:rPr>
              <a:t>MY FAMI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2997360"/>
            <a:ext cx="820908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Dad=Daryl Irons 4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Mum=Gina Irons 4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Older sister=Tahnee Irons 1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1" lang="en-US" sz="2900" spc="-1" strike="noStrike">
                <a:solidFill>
                  <a:srgbClr val="000000"/>
                </a:solidFill>
                <a:latin typeface="Arial Rounded MT Bold"/>
              </a:rPr>
              <a:t>Younger sister=Tenaya Irons 10</a:t>
            </a:r>
            <a:r>
              <a:rPr b="1" lang="en-US" sz="3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268280"/>
            <a:ext cx="770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052640"/>
            <a:ext cx="777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ettenschweiler"/>
              </a:rPr>
              <a:t>I have a family of five. There's  my Dad, my Mum, my two sisters and pets. My family is very important to me. We all might have a laugh every now and then, or some of us might have had a fight or having a bad time. Our family doesn’t usually sit down and play a board game, but every time our Dad goes out of the country for his work, we usually have a family night or go to the pictures. I LOVE MY FAMI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 rot="5400000">
            <a:off x="-2359440" y="2943360"/>
            <a:ext cx="6264360" cy="104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Y PE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27280" y="260280"/>
            <a:ext cx="127656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Jokerman"/>
              </a:rPr>
              <a:t>RUBY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300720" y="5877000"/>
            <a:ext cx="2124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Jokerman"/>
              </a:rPr>
              <a:t>DUCHES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Jokerman"/>
              <a:ea typeface="Joker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2521080" cy="203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43640" y="3500280"/>
            <a:ext cx="2374920" cy="21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56000" y="260280"/>
            <a:ext cx="460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erlin Sans FB"/>
              </a:rPr>
              <a:t>Ruby is 2 ½ years old and she is a staffy (short for Staffordshire). She has a light brown coat of fur and a sort of white diamond starting at her neck going down her back. She also has white coloured paws. I love my dog. I play with her all the ti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860640"/>
            <a:ext cx="47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 u="sng">
                <a:solidFill>
                  <a:srgbClr val="000000"/>
                </a:solidFill>
                <a:uFillTx/>
                <a:latin typeface="Berlin Sans FB"/>
              </a:rPr>
              <a:t>Duchess is 12 years old. She has white fur with light brown patches everywhere. She has a light pink nose which is very mo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0:43:42Z</dcterms:created>
  <dc:creator>Admin</dc:creator>
  <dc:description/>
  <dc:language>en-US</dc:language>
  <cp:lastModifiedBy>Admin</cp:lastModifiedBy>
  <dcterms:modified xsi:type="dcterms:W3CDTF">2009-03-04T04:09:00Z</dcterms:modified>
  <cp:revision>4</cp:revision>
  <dc:subject/>
  <dc:title>Slide 1</dc:title>
</cp:coreProperties>
</file>